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B88-EEEB-4C29-8E12-DDEAB122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43B-843A-4CB9-94DF-A0D04C3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ACA-CFA7-4812-9067-1CAA7B3A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47A-9329-4405-802C-BBB1F5DB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D028-FA64-4856-8685-AA9BD549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C73-9426-474E-AD07-B9BDD6B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3D7D-87F9-4A70-8588-F5FF283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12C-4F3D-4399-9820-155851D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455-B59E-40FD-9A97-23E344A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AC9-B5DA-4A48-848C-FD1963BD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5EB-C30D-4515-9BED-ECA9355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31B-FB52-422D-960D-1083C8F4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D8B2-BA57-4240-8338-B5A4341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E6EF-26E6-4258-BDF9-EF89293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303A-4EB7-4F5C-A95B-7EFBB00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4690-9B64-485F-B2E1-5CD42B85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9F4D-CA28-441F-A065-F84F9B94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369-2392-4F25-954C-B442BE60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9C4-0304-472A-AF31-F9C33AD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6BB-3C3C-4153-9971-C2300CB2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EED-C2AB-48D5-A804-F31D6BC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9E4-3D6A-4193-88E5-DEE789C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C41-C106-489A-A0DA-7E8CF5D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0B0-178B-4BD5-A8B2-F9C111B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F36-8D33-411B-AD08-8F77916A20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B7A-29F1-425E-AEF0-CD599A6454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emical Re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(or Combination)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wo or more substances combine to form a “larger” compound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Group 1A &amp; 2A metal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use common charges to predict ionic compound form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Transition metals or 2 nonmetal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many products are possi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 of bar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ination of copper and sulf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16294" t="4441" r="16294" b="12451"/>
          <a:stretch/>
        </p:blipFill>
        <p:spPr>
          <a:xfrm>
            <a:off x="6937200" y="2286000"/>
            <a:ext cx="22068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re complex molecule breaks down into simpler sub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Binary compounds-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compose into constituent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ernary or more complex compound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decompose into either constituent elements or into a combination of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MMARY OF REACTIONS in PACK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 of sulfur trioxide g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 of ammonium nitrate to produce dinitrogen oxide and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0" t="0" r="52782" b="0"/>
          <a:stretch/>
        </p:blipFill>
        <p:spPr>
          <a:xfrm>
            <a:off x="2133720" y="2590920"/>
            <a:ext cx="129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v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so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composition- atoms with NEW properties are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sociation- ions without new properties are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267440" cy="28573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5720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ng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ssible reaction between an element and an aqueous 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s ONLY replace metals and nonmetals ONLY replace non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tivity series (front of packet) used to predict whether replacement will occu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thium is combined with calcium nit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lver is placed into a solution of magnesium carbon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lorine gas is bubbled through a solution of aluminum brom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sible exchange of partners by two comp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posites attract- two positive ions WILL NOT combine (two negative ions won’t either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bility Rules (handout)- used to predict if double replacement will occ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tions of magnesium nitrate and aluminum phosphat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tions of sodium chloride and aluminum nitrat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t Ionic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iminate spectator 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lutions of sodium chloride and silver nitrate are mix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derstanding Chemical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chemical reaction occurs when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change in energy occu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othermic –gives off energ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ndothermic – absorbs energ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r chang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new gas is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precipitate is formed from 2 solu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 to Form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ids and bases react in a double replacement reaction and produce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id- produces 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 Black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ons, pH &lt; 7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- produces 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ons, pH &gt; 7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utralization- producing neutral water (pH = 7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utraliza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ydrochloric acid and sodium hydroxid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lfuric acid and calcium hydroxid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 Rea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Reactant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starting “ingredients” for the reaction (written to LEFT of arrow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Product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final result(s) of reaction (written to RIGHT of arrow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Arrow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signifies a change is taking place (read “react to form” or “yield”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Symbol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used to specify properties of reactants and products or conditions of the reaction (s), (l), (g), (aq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d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4(aq)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+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(s)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4(aq)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+ Cu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(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queous copper (II) sulfate and solid silver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react to produc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queous silver sulfate and solid copper.”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y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Law of Conservation of Mass (LCM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mass is neither created nor destroyed in chemical reactions (Antione Lavosier, 1700’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efficients- added so reactions obey the LCM (DON’T touch subscripts!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cedure for Balanc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formulas for reactants and product on respective sides of the equ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form initial “atom inventory” on each side of the equ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d coefficients to make inventories match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pdate and repeat as nee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ify answer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us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ng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ction with oxygen that releases energy (heat or ligh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ydrocarb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(contain only C and H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omplete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bustion always produces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g) and 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(g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note: incomplete combustion may result in C(s) or CO(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te combustion of propane (C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ustion of alumin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twenty pound propane tank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7:18:13Z</dcterms:created>
  <dc:creator>cmichene</dc:creator>
  <dc:description/>
  <dc:language>en-US</dc:language>
  <cp:lastModifiedBy>udsd</cp:lastModifiedBy>
  <dcterms:modified xsi:type="dcterms:W3CDTF">2010-03-15T15:22:10Z</dcterms:modified>
  <cp:revision>36</cp:revision>
  <dc:subject/>
  <dc:title>Chapter 10</dc:title>
</cp:coreProperties>
</file>